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5.jpeg" ContentType="image/jpeg"/>
  <Override PartName="/ppt/media/image23.jpeg" ContentType="image/jpeg"/>
  <Override PartName="/ppt/media/image21.gif" ContentType="image/gif"/>
  <Override PartName="/ppt/media/image19.png" ContentType="image/png"/>
  <Override PartName="/ppt/media/image20.gif" ContentType="image/gif"/>
  <Override PartName="/ppt/media/image18.gif" ContentType="image/gif"/>
  <Override PartName="/ppt/media/image17.jpeg" ContentType="image/jpeg"/>
  <Override PartName="/ppt/media/image14.gif" ContentType="image/gif"/>
  <Override PartName="/ppt/media/image1.jpeg" ContentType="image/jpeg"/>
  <Override PartName="/ppt/media/image7.jpeg" ContentType="image/jpeg"/>
  <Override PartName="/ppt/media/image22.gif" ContentType="image/gif"/>
  <Override PartName="/ppt/media/image4.jpeg" ContentType="image/jpeg"/>
  <Override PartName="/ppt/media/image13.gif" ContentType="image/gif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6F8-5951-4493-BF87-5D20E744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B23-9F92-469B-9431-5C7E0C80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B43-665E-4FBD-B7CD-DAD288DA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EB3-5560-447F-9481-F1D5B88D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493B-58AE-48D6-B2FB-D31D59E0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F65E-5061-410D-991E-35FB9F00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0603-9669-452F-BB52-CF0D2AF5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E9B0-0924-43C8-859B-358F5599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61B1-C552-4C02-A1B7-4D62DE6E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3C43-644E-4B5D-B5E7-3AC41B32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1626-59A0-4F81-B5C3-6A79AC07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F5B-EA15-48A4-A0B7-B27243E9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EA95-B566-462F-848B-CBCBA114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5386-D142-45F8-9CE8-80156411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CC1B-1BAF-4B94-BFD8-9A30D104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BED3-04CD-4F84-ADCA-B5552C3B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A425-E04C-43B7-9E73-86166AC2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78879-4628-439B-BED8-0A93F3AB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060E5-C429-4573-A6BE-0A55EAFA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B13F3-302B-4FAB-814C-F7531ED7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A3235-824B-423A-A2CB-067312E0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24D42-6266-410A-A327-3FC2C37F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6A0B-6E66-4D38-8A2B-23D60B25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FDA5C-7568-4ADD-BF56-38A3F0A4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932A4-F2CD-4C16-A4F6-2FC212D7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A1944-A72C-4925-86FF-D94F4B5B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C9F26-645C-48D8-84D5-50DECE26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FB49A-ADA1-4FA8-B359-5F4E0772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19A01-E925-43B1-848D-B216DC47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D498D-BCDA-41D9-9167-95E97E1C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E429B-0757-4D94-BEA5-BA094C17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6B329-C1A0-4787-98F4-85A079EC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DE5DF-8622-4C8E-A0A9-C2F24983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95EC-A781-4E5F-84A6-E8759A97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2D92F-82DC-412D-A34B-10674CED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4BAB1-49E2-40A8-AFDD-B01A1034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7F91B-71A2-4C05-9ACE-49881CC1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9CDDA-6DD4-4F3D-AE65-159E96AC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6FC93-1BBE-4F92-B54E-1904A3F6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0E3E8-2D19-471B-975D-1ED9880C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8AABE-921B-4494-A370-FFE2EDCA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82EBD-0D54-40BE-8E7F-F457083B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6086A-6757-42AC-B21F-3B0C8233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F01-643E-481F-B1AD-9A581E31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DBC-120C-4C24-BE86-C1D1917E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1DB-9B8A-4A3E-A0F0-A460B092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9E49-8FC6-4026-88C6-A8B5CC49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649-836F-403E-9597-4D24A7A5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B04E56-8741-40E8-9DAF-E799F5B0673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b8b8b"/>
                </a:solidFill>
                <a:latin typeface="Calibri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10C462-2963-4561-8198-FBB9A86FF45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886968-4827-451D-A568-DC7BBDA5B8D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F88E75-8942-4BAE-BB6A-6D53B5389B9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Содержимое 3" descr="image.gif"/>
          <p:cNvPicPr/>
          <p:nvPr/>
        </p:nvPicPr>
        <p:blipFill>
          <a:blip r:embed="rId1"/>
          <a:stretch/>
        </p:blipFill>
        <p:spPr>
          <a:xfrm>
            <a:off x="1785960" y="1643040"/>
            <a:ext cx="5880960" cy="28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c00000"/>
                </a:solidFill>
                <a:latin typeface="Informal Roman"/>
              </a:rPr>
              <a:t>Guess a riddle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81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холм подняться я решил. Холм по-английски это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Содержимое 6"/>
          <p:cNvSpPr/>
          <p:nvPr/>
        </p:nvSpPr>
        <p:spPr>
          <a:xfrm>
            <a:off x="457200" y="2500200"/>
            <a:ext cx="4039920" cy="3164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92d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ился в поле. Все болит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поле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Содержимое 7"/>
          <p:cNvSpPr/>
          <p:nvPr/>
        </p:nvSpPr>
        <p:spPr>
          <a:xfrm>
            <a:off x="4645080" y="263484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eeece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3">
                    <a:lumMod val="50000"/>
                  </a:schemeClr>
                </a:solidFill>
                <a:latin typeface="Arial Black"/>
              </a:rPr>
              <a:t>Make up sentences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22160" y="192888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a lot of/ hills/ there are/ in the/ green/ country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in/ a long/ your/ there is/ town/ river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chemeClr val="accent4">
                    <a:lumMod val="75000"/>
                  </a:schemeClr>
                </a:solidFill>
                <a:latin typeface="Chiller"/>
              </a:rPr>
              <a:t>Divide the descriptions into 2 columns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Содержимое 3"/>
          <p:cNvGraphicFramePr/>
          <p:nvPr/>
        </p:nvGraphicFramePr>
        <p:xfrm>
          <a:off x="457200" y="1600200"/>
          <a:ext cx="8229240" cy="1971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Box 4"/>
          <p:cNvSpPr/>
          <p:nvPr/>
        </p:nvSpPr>
        <p:spPr>
          <a:xfrm>
            <a:off x="714240" y="4357800"/>
            <a:ext cx="3857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428760" y="3790800"/>
            <a:ext cx="385740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It is big. It is noisy. You can see a lot of cars, buses and trams in the str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357120" y="4933800"/>
            <a:ext cx="400032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It is quiet. It is peaceful. It is green. You can see a lot of apple trees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071960" y="3790800"/>
            <a:ext cx="478584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The streets are wide and long. There are many people in the streets. They are always bu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4714920" y="4786200"/>
            <a:ext cx="42145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214880" y="4862520"/>
            <a:ext cx="457164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There are a lot of buildings. The houses are big and tall. You can see many bridge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643120" y="5861160"/>
            <a:ext cx="478584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 The streets are small. There are many animals in the str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07407E-006 L -2.77778E-006 -0.30463 E">
                                      <p:cBhvr>
                                        <p:cTn id="16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3 -0.03032 L 0.39184 -0.46088 E">
                                      <p:cBhvr>
                                        <p:cTn id="1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-0.42048 -0.18912 E">
                                      <p:cBhvr>
                                        <p:cTn id="17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-0.45504 -0.24051 E">
                                      <p:cBhvr>
                                        <p:cTn id="17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47 -0.03056 L 0.17344 -0.38473 E">
                                      <p:cBhvr>
                                        <p:cTn id="18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040" cy="85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1">
                    <a:lumMod val="75000"/>
                  </a:schemeClr>
                </a:solidFill>
                <a:latin typeface="Monotype Corsiva"/>
              </a:rPr>
              <a:t>Mark the correct sentence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14240" y="1214280"/>
            <a:ext cx="7772040" cy="514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lot of cow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lot of cows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is a lot of cows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cow in the country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cap="all">
                <a:solidFill>
                  <a:schemeClr val="accent1">
                    <a:lumMod val="50000"/>
                  </a:schemeClr>
                </a:solidFill>
                <a:latin typeface="Juice ITC"/>
              </a:rPr>
              <a:t>Complete the sentences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1571760"/>
            <a:ext cx="7772040" cy="39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… a lot (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вец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in the country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… a lot of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рыбы) 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the river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 lot of gardens in ou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больших городах)?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 lot of shops in ou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больших городах)?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2">
                    <a:lumMod val="75000"/>
                  </a:schemeClr>
                </a:solidFill>
                <a:latin typeface="Corbel"/>
              </a:rPr>
              <a:t>Mark the singular noun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22160" y="2000160"/>
            <a:ext cx="7772040" cy="35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ople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n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9862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6">
                    <a:lumMod val="50000"/>
                  </a:schemeClr>
                </a:solidFill>
                <a:latin typeface="Chiller"/>
              </a:rPr>
              <a:t>Which word is spelt in the wrong way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040" cy="32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al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ver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ry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rm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7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am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ve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not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house is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it because …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2" descr="E:\Английский язык\Фотографии\мультгерои\image28.gif"/>
          <p:cNvPicPr/>
          <p:nvPr/>
        </p:nvPicPr>
        <p:blipFill>
          <a:blip r:embed="rId1"/>
          <a:stretch/>
        </p:blipFill>
        <p:spPr>
          <a:xfrm>
            <a:off x="4643280" y="428760"/>
            <a:ext cx="2999880" cy="299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E:\Английский язык\Фотографии\мультгерои\нюша 2.png"/>
          <p:cNvPicPr/>
          <p:nvPr/>
        </p:nvPicPr>
        <p:blipFill>
          <a:blip r:embed="rId2"/>
          <a:stretch/>
        </p:blipFill>
        <p:spPr>
          <a:xfrm>
            <a:off x="4857840" y="2214720"/>
            <a:ext cx="3936240" cy="4214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E:\Английский язык\Фотографии\мультгерои\матроскин.gif"/>
          <p:cNvPicPr/>
          <p:nvPr/>
        </p:nvPicPr>
        <p:blipFill>
          <a:blip r:embed="rId3"/>
          <a:stretch/>
        </p:blipFill>
        <p:spPr>
          <a:xfrm>
            <a:off x="4714920" y="928800"/>
            <a:ext cx="3214440" cy="3214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E:\Английский язык\Фотографии\мультгерои\parrot kesha.gif"/>
          <p:cNvPicPr/>
          <p:nvPr/>
        </p:nvPicPr>
        <p:blipFill>
          <a:blip r:embed="rId4"/>
          <a:stretch/>
        </p:blipFill>
        <p:spPr>
          <a:xfrm>
            <a:off x="5000760" y="2286000"/>
            <a:ext cx="342396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Содержимое 3" descr="thank_you_011.gif"/>
          <p:cNvPicPr/>
          <p:nvPr/>
        </p:nvPicPr>
        <p:blipFill>
          <a:blip r:embed="rId1"/>
          <a:stretch/>
        </p:blipFill>
        <p:spPr>
          <a:xfrm>
            <a:off x="2143080" y="1285920"/>
            <a:ext cx="49716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Содержимое 3" descr="good bye 13.jpg"/>
          <p:cNvPicPr/>
          <p:nvPr/>
        </p:nvPicPr>
        <p:blipFill>
          <a:blip r:embed="rId1"/>
          <a:stretch/>
        </p:blipFill>
        <p:spPr>
          <a:xfrm>
            <a:off x="2143080" y="928800"/>
            <a:ext cx="46432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558ed5"/>
                </a:solidFill>
                <a:latin typeface="Cooper Black"/>
              </a:rPr>
              <a:t>Country 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and</a:t>
            </a:r>
            <a:r>
              <a:rPr b="0" lang="en-US" sz="4400" spc="-1" strike="noStrike">
                <a:solidFill>
                  <a:srgbClr val="558ed5"/>
                </a:solidFill>
                <a:latin typeface="Cooper Black"/>
              </a:rPr>
              <a:t> </a:t>
            </a:r>
            <a:r>
              <a:rPr b="0" lang="en-US" sz="4400" spc="-1" strike="noStrike">
                <a:solidFill>
                  <a:schemeClr val="accent5">
                    <a:lumMod val="50000"/>
                  </a:schemeClr>
                </a:solidFill>
                <a:latin typeface="Cooper Black"/>
              </a:rPr>
              <a:t>City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Содержимое 3" descr="city_country.jpg"/>
          <p:cNvPicPr/>
          <p:nvPr/>
        </p:nvPicPr>
        <p:blipFill>
          <a:blip r:embed="rId1"/>
          <a:stretch/>
        </p:blipFill>
        <p:spPr>
          <a:xfrm>
            <a:off x="1523880" y="1720080"/>
            <a:ext cx="6095520" cy="42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cap="all">
                <a:solidFill>
                  <a:srgbClr val="17375e"/>
                </a:solidFill>
                <a:latin typeface="Chiller"/>
              </a:rPr>
              <a:t>Choose the appropriate word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10717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ouses in the city are very …. </a:t>
            </a: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small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angr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wind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all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icture 2"/>
          <p:cNvSpPr/>
          <p:nvPr/>
        </p:nvSpPr>
        <p:spPr>
          <a:xfrm>
            <a:off x="428760" y="3429000"/>
            <a:ext cx="3428640" cy="211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1f497d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4">
                    <a:lumMod val="75000"/>
                  </a:schemeClr>
                </a:solidFill>
                <a:latin typeface="Calibri"/>
              </a:rPr>
              <a:t>Which words are connected with </a:t>
            </a:r>
            <a:r>
              <a:rPr b="1" lang="en-US" sz="4400" spc="-1" strike="noStrike" cap="all">
                <a:solidFill>
                  <a:schemeClr val="accent1">
                    <a:lumMod val="75000"/>
                  </a:schemeClr>
                </a:solidFill>
                <a:latin typeface="Chiller"/>
              </a:rPr>
              <a:t>a city</a:t>
            </a:r>
            <a:r>
              <a:rPr b="1" lang="en-US" sz="4000" spc="-1" strike="noStrike" cap="all">
                <a:solidFill>
                  <a:schemeClr val="accent4">
                    <a:lumMod val="75000"/>
                  </a:schemeClr>
                </a:solidFill>
                <a:latin typeface="Calibri"/>
              </a:rPr>
              <a:t>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040" cy="42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dge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w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r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s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icture 2"/>
          <p:cNvSpPr/>
          <p:nvPr/>
        </p:nvSpPr>
        <p:spPr>
          <a:xfrm>
            <a:off x="428760" y="3500280"/>
            <a:ext cx="3571560" cy="2041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eeece1">
                <a:lumMod val="2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70c0"/>
                </a:solidFill>
                <a:latin typeface="Cooper Black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мотри как здесь красиво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ща там, здесь речка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Содержимое 6"/>
          <p:cNvSpPr/>
          <p:nvPr/>
        </p:nvSpPr>
        <p:spPr>
          <a:xfrm>
            <a:off x="457200" y="2635560"/>
            <a:ext cx="4039920" cy="3029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4f81bd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5080" y="1285920"/>
            <a:ext cx="4041360" cy="88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б знали, сообщаю вам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ферма – это …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Содержимое 7"/>
          <p:cNvSpPr/>
          <p:nvPr/>
        </p:nvSpPr>
        <p:spPr>
          <a:xfrm>
            <a:off x="4714920" y="2286000"/>
            <a:ext cx="3903480" cy="3951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8064a2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030a0"/>
                </a:solidFill>
                <a:latin typeface="Arial Rounded MT Bold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рковь хочет всем помочь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рковь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Содержимое 6"/>
          <p:cNvSpPr/>
          <p:nvPr/>
        </p:nvSpPr>
        <p:spPr>
          <a:xfrm>
            <a:off x="714240" y="2500200"/>
            <a:ext cx="3357360" cy="3873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1f497d">
                <a:lumMod val="60000"/>
                <a:lumOff val="4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 наш город посетите!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род это будет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одержимое 7"/>
          <p:cNvSpPr/>
          <p:nvPr/>
        </p:nvSpPr>
        <p:spPr>
          <a:xfrm>
            <a:off x="4572000" y="271476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4f81bd">
                <a:lumMod val="40000"/>
                <a:lumOff val="6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a452a"/>
                </a:solidFill>
                <a:latin typeface="Berlin Sans FB Demi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399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деревню ехать очень рад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ревня – это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Содержимое 6" descr="8ZX4D00Z.jpg"/>
          <p:cNvPicPr/>
          <p:nvPr/>
        </p:nvPicPr>
        <p:blipFill>
          <a:blip r:embed="rId1"/>
          <a:stretch/>
        </p:blipFill>
        <p:spPr>
          <a:xfrm>
            <a:off x="427320" y="2500200"/>
            <a:ext cx="4073040" cy="32785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5080" y="1357200"/>
            <a:ext cx="4041360" cy="99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рень в саду цветет. Прохлада. Сад по-английски – это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Содержимое 7"/>
          <p:cNvSpPr/>
          <p:nvPr/>
        </p:nvSpPr>
        <p:spPr>
          <a:xfrm>
            <a:off x="4645080" y="263484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Cooper Black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ный вам задам вопрос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ак назвали лошадь?» -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Содержимое 6" descr="905478307.gif"/>
          <p:cNvPicPr/>
          <p:nvPr/>
        </p:nvPicPr>
        <p:blipFill>
          <a:blip r:embed="rId1"/>
          <a:stretch/>
        </p:blipFill>
        <p:spPr>
          <a:xfrm>
            <a:off x="457200" y="2594520"/>
            <a:ext cx="4039920" cy="3111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свою Буренку называю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ушка – коровушка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7" descr="1944.gif"/>
          <p:cNvPicPr/>
          <p:nvPr/>
        </p:nvPicPr>
        <p:blipFill>
          <a:blip r:embed="rId2"/>
          <a:stretch/>
        </p:blipFill>
        <p:spPr>
          <a:xfrm>
            <a:off x="5000760" y="257184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2">
                    <a:lumMod val="75000"/>
                  </a:schemeClr>
                </a:solidFill>
                <a:latin typeface="Harlow Solid Italic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Char char="-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рисуешь доченька?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Char char="-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мочка, смотри! Я рисую дерево, по – английски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6" descr="tree2.gif"/>
          <p:cNvPicPr/>
          <p:nvPr/>
        </p:nvPicPr>
        <p:blipFill>
          <a:blip r:embed="rId1"/>
          <a:stretch/>
        </p:blipFill>
        <p:spPr>
          <a:xfrm>
            <a:off x="642960" y="2286000"/>
            <a:ext cx="3492000" cy="3951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5080" y="1357200"/>
            <a:ext cx="4041360" cy="81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у тропинки стадо пас. Тропинка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Содержимое 7"/>
          <p:cNvSpPr/>
          <p:nvPr/>
        </p:nvSpPr>
        <p:spPr>
          <a:xfrm>
            <a:off x="5214960" y="2286000"/>
            <a:ext cx="2642760" cy="3951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9bbb59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  <Words>457</Words>
  <Paragraphs>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3-04-29T21:30:40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